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  <p:custShowLst>
    <p:custShow name="Chapter" id="0">
      <p:sldLst>
        <p:sld r:id="rId15"/>
        <p:sld r:id="rId16"/>
        <p:sld r:id="rId17"/>
        <p:sld r:id="rId26"/>
        <p:sld r:id="rId18"/>
        <p:sld r:id="rId19"/>
        <p:sld r:id="rId20"/>
        <p:sld r:id="rId21"/>
        <p:sld r:id="rId22"/>
        <p:sld r:id="rId23"/>
        <p:sld r:id="rId24"/>
        <p:sld r:id="rId25"/>
        <p:sld r:id="rId27"/>
        <p:sld r:id="rId28"/>
        <p:sld r:id="rId29"/>
        <p:sld r:id="rId30"/>
        <p:sld r:id="rId31"/>
      </p:sldLst>
    </p:custShow>
    <p:custShow name="STP" id="1">
      <p:sldLst>
        <p:sld r:id="rId32"/>
      </p:sldLst>
    </p:custShow>
    <p:custShow name="Transparencies" id="2">
      <p:sldLst>
        <p:sld r:id="rId26"/>
        <p:sld r:id="rId19"/>
        <p:sld r:id="rId22"/>
        <p:sld r:id="rId24"/>
      </p:sldLst>
    </p:custShow>
    <p:custShow name="Chapter menu" id="3">
      <p:sldLst>
        <p:sld r:id="rId14"/>
      </p:sldLst>
    </p:custShow>
    <p:custShow name="Section 1" id="4">
      <p:sldLst>
        <p:sld r:id="rId15"/>
        <p:sld r:id="rId16"/>
        <p:sld r:id="rId17"/>
        <p:sld r:id="rId26"/>
        <p:sld r:id="rId18"/>
        <p:sld r:id="rId19"/>
        <p:sld r:id="rId14"/>
      </p:sldLst>
    </p:custShow>
    <p:custShow name="Section 2" id="5">
      <p:sldLst>
        <p:sld r:id="rId20"/>
        <p:sld r:id="rId21"/>
        <p:sld r:id="rId22"/>
        <p:sld r:id="rId23"/>
        <p:sld r:id="rId24"/>
        <p:sld r:id="rId25"/>
        <p:sld r:id="rId14"/>
      </p:sldLst>
    </p:custShow>
    <p:custShow name="Section 3" id="6">
      <p:sldLst>
        <p:sld r:id="rId27"/>
        <p:sld r:id="rId28"/>
        <p:sld r:id="rId29"/>
        <p:sld r:id="rId30"/>
        <p:sld r:id="rId3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56642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8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1">
            <a:hlinkClick r:id="rId3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0"/>
          <p:cNvSpPr/>
          <p:nvPr/>
        </p:nvSpPr>
        <p:spPr>
          <a:xfrm>
            <a:off x="3505320" y="763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Section 1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Biogenesi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Section 2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Earth’s Histor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Section 3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The First Life-Form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685800" y="10666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irst Organ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ynthesis of Orga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imple organic compounds on early Earth may have formed under conditions of high energy and in an atmosphere very different from that of today’s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rther chemical reactions may have converted simple organic compounds into the macromolecules important to lif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onditions have been experimentally modele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th’s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3048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of early life atmosphere and the development of organic molecules, like amino acids. 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505320" y="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th’s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youtube.com/watch?v=j9ZRHoawy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youtube.com/watch?v=9JaYWEsT7fU&amp;feature=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1" descr="p128"/>
          <p:cNvPicPr/>
          <p:nvPr/>
        </p:nvPicPr>
        <p:blipFill>
          <a:blip r:embed="rId2"/>
          <a:stretch/>
        </p:blipFill>
        <p:spPr>
          <a:xfrm>
            <a:off x="3905280" y="1068480"/>
            <a:ext cx="409572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rom Molecules to Cell-Lik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711360" y="1828800"/>
            <a:ext cx="416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-like structures, including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crosphere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acervates,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spontaneously in certain kinds of solutions.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structures could have been a step in the formation of modern cells but lack hereditary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3505320" y="0"/>
            <a:ext cx="4190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th’s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ttp://www.youtube.com/watch?v=aRzrYNVXF28&amp;feature=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3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685800" y="9144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rom Molecules to Cell-Lik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457200" y="16765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continue to investigate many hypotheses about the origins of organic molecules and cells in Earth’s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th’s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685800" y="914400"/>
            <a:ext cx="56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7113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ce of the chemistry of RNA in relation to the origin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is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inferred characteristics that describe the first forms of cellular life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wo types of autotrophy used by early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elate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evelopment of photosynthesis to the development of aerobic respiration in early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heory of endosymbio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rst Life-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3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Origin of Heredity to the Fir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molecule that held hereditary information may have been RNA rather than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ddition to serving as a template for protein assembly, some RNA molecules can act as self-replicating enzymes and are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ibo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rst Life-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3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3886200" y="752400"/>
            <a:ext cx="4800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Firs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380880" y="129528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cells that formed on Earth were probably heterotrophic prokary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em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autotrophic cells probably used chemosynthesis to make fo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emosynthe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duces energy through the oxidation of inorganic substances, such as sulf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tosynthesis and 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odern autotrophic cells, such a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yanobac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se photosynthesis to make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mportant byproduct of photosynthesis is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rst Life-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3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First Cell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tosynthesis and 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oxygen began to accumulate on Earth, cells would need to bind oxygen to other compounds in order to prevent damage to cell enzy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binding function may have been a first step toward aerobic respiration in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rst Life-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685800" y="10666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First 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71136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karyotic cells may have evolved from large prokaryotic cells that engulfed smaller prokaryotic cells. This is known as the theory of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dosymbiosi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gulfed prokaryotic cells may have become the ancestors of organelles such as mitochondria and chloropl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rst Life-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3886200" y="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rst Life-Forms (604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4864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7"/>
          <p:cNvSpPr/>
          <p:nvPr/>
        </p:nvSpPr>
        <p:spPr>
          <a:xfrm>
            <a:off x="3886200" y="920880"/>
            <a:ext cx="480060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gulfed prokaryotic cells may have become the ancestors of organelles such as mitochondria (from aerobic bacteria) and chloroplasts (cyano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SUPPORTING EVIDENC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ochondria and chloroplast have own DNA, same size and shape as bacteria, and double membranes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6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113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nciple of biogenesis with the idea of spontaneous gener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ults of experiments by Redi and by Spallanzani that tested the hypothesis of spontaneous gener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Pasteur’s experiment disproved the hypothesis of spontaneous gener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Text Box 11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di’s Experi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11000" y="1828800"/>
            <a:ext cx="546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the 1600s, it was generally thought that organisms could arise from nonliving material by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pontaneous gener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i showed in 1668 that rotting meat kept away from flies would not produce new flie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gots appeared only on meat that had been exposed to fli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921040" cy="48765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8" descr=""/>
          <p:cNvPicPr/>
          <p:nvPr/>
        </p:nvPicPr>
        <p:blipFill>
          <a:blip r:embed="rId2"/>
          <a:stretch/>
        </p:blipFill>
        <p:spPr>
          <a:xfrm>
            <a:off x="7024680" y="0"/>
            <a:ext cx="134316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pallanzani’s Experi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11000" y="1828800"/>
            <a:ext cx="462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llanzani showed in the 1700s that microorganisms would not grow in broth when its container was heated and then sealed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nferred that microorganisms do not arise spontaneously but, rather, are carried in the ai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7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457440" cy="25257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1714680" cy="25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asteur’s Experi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teur in the 1800s used a variation of Spallanzani’s design to prove that microorganisms are carried in the air and do not arise by spontaneous gener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genesis leads to other living organisms. And this connects with present day Cell Theory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fe comes from lif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lls are the basic unit of lif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l life if made of cell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477120" y="0"/>
            <a:ext cx="243828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3505320" y="0"/>
            <a:ext cx="41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00"/>
                </a:solidFill>
                <a:latin typeface="Arial"/>
              </a:rPr>
              <a:t>1http://www.youtube.com/watch?v=KSLCkT2ttXQ&amp;feature=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9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2" descr="p126"/>
          <p:cNvPicPr/>
          <p:nvPr/>
        </p:nvPicPr>
        <p:blipFill>
          <a:blip r:embed="rId2"/>
          <a:stretch/>
        </p:blipFill>
        <p:spPr>
          <a:xfrm>
            <a:off x="611280" y="1544760"/>
            <a:ext cx="80438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685800" y="1066680"/>
            <a:ext cx="566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7113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ut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rn scientific understanding of the formation of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cept of half-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organic compounds in the Miller-Urey appar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ssible importance of cell-like structures produced in the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th’s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05320" y="752400"/>
            <a:ext cx="49784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Formation of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457200" y="137160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arth’s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 think that Earth formed more than 4 billion years ago by the gravitational accumulation of dust and debris moving through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adiometric 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Isotopes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atoms with varying numbers of neu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ges of rocks and other materials can be determined by measuring the amount of radioactive decay that has occurred in radioactive isotopes found in samples of those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sotope’s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half-lif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time that one-half of a sample of the isotope takes to dec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th’s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00980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505320" y="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th’s History (754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8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9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1" descr="p127"/>
          <p:cNvPicPr/>
          <p:nvPr/>
        </p:nvPicPr>
        <p:blipFill>
          <a:blip r:embed="rId2"/>
          <a:stretch/>
        </p:blipFill>
        <p:spPr>
          <a:xfrm>
            <a:off x="611280" y="1671480"/>
            <a:ext cx="8043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in gibsonbrown</dc:creator>
  <dc:description/>
  <dc:language>en-US</dc:language>
  <cp:lastModifiedBy>rgibsonbrown</cp:lastModifiedBy>
  <cp:lastPrinted>2004-02-20T14:12:55Z</cp:lastPrinted>
  <dcterms:modified xsi:type="dcterms:W3CDTF">2011-05-25T15:22:15Z</dcterms:modified>
  <cp:revision>956</cp:revision>
  <dc:subject/>
  <dc:title>No Slide Title</dc:title>
</cp:coreProperties>
</file>